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F5A-7212-480B-BA31-628B4307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6B8-9DC4-4CFB-A88A-E3B212A3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697-372B-4920-86E8-39088FC9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D83-BDFA-471A-BBC4-580AE544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513-0203-4264-9EE7-E18ACAB5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6D9-C6F2-4D16-8236-A16E0B51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327-9303-480D-9150-A584EF3E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F24-FB1F-4543-9F44-97667E4A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AF4-4D1C-4C75-ABE9-ABE457DD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DE4-F0DE-4E55-83A8-9B65D523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EFA-3A91-4B52-953F-BA0EBBD3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174-3AB3-4748-B41C-C076D559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E207-9610-4716-A2EB-C05FCBC61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ristinajclark.files.wordpress.com/2009/05/garden-may-1-039.jpg&amp;imgrefurl=http://localism.com/blog/tx/houston/posts/1312687/Best-Tex-Mex-in&amp;usg=__N-dSiEGhJ4lzDZGDGasUlSybf6c=&amp;h=2048&amp;w=3072&amp;sz=3692&amp;hl=en&amp;start=27&amp;um=1&amp;itbs=1&amp;tbnid=fhJ7uc9Fv990MM:&amp;tbnh=100&amp;tbnw=150&amp;prev=/images%3Fq%3Ddifferent%2Bmexican%2Bfoods%26start%3D20%26um%3D1%26hl%3Den%26safe%3Dactive%26sa%3DN%26ndsp%3D20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fc3.gsfc.nasa.gov/MARCONI/images-basic/spectrum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Tania y Gis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os Derp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Box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Pes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Beis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Te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Volli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5105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o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P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TI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CAba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COCOd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G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962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Ta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Enchil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T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Poz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Pi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703520"/>
            <a:ext cx="5715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Caf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3716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AS BANDE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M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34:51Z</dcterms:created>
  <dc:creator>WSFCS Workstation</dc:creator>
  <dc:description/>
  <dc:language>en-US</dc:language>
  <cp:lastModifiedBy>WSFCS Workstation</cp:lastModifiedBy>
  <dcterms:modified xsi:type="dcterms:W3CDTF">2010-04-26T18:59:25Z</dcterms:modified>
  <cp:revision>3</cp:revision>
  <dc:subject/>
  <dc:title>La Clase De Espanol</dc:title>
</cp:coreProperties>
</file>